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png" ContentType="image/png"/>
  <Override PartName="/ppt/media/image3.gif" ContentType="image/gif"/>
  <Override PartName="/ppt/media/image18.wmf" ContentType="image/x-wmf"/>
  <Override PartName="/ppt/media/image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gif" ContentType="image/gif"/>
  <Override PartName="/ppt/media/image8.wmf" ContentType="image/x-wmf"/>
  <Override PartName="/ppt/media/image2.png" ContentType="image/png"/>
  <Override PartName="/ppt/media/image4.gif" ContentType="image/gif"/>
  <Override PartName="/ppt/media/image7.wmf" ContentType="image/x-wmf"/>
  <Override PartName="/ppt/media/image11.jpeg" ContentType="image/jpeg"/>
  <Override PartName="/ppt/media/image12.wmf" ContentType="image/x-wmf"/>
  <Override PartName="/ppt/media/image9.png" ContentType="image/pn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6421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000680" y="2857680"/>
            <a:ext cx="5486400" cy="360"/>
            <a:chOff x="4000680" y="2857680"/>
            <a:chExt cx="5486400" cy="360"/>
          </a:xfrm>
        </p:grpSpPr>
        <p:sp>
          <p:nvSpPr>
            <p:cNvPr id="1" name=""/>
            <p:cNvSpPr/>
            <p:nvPr/>
          </p:nvSpPr>
          <p:spPr>
            <a:xfrm>
              <a:off x="4000680" y="2857680"/>
              <a:ext cx="5486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000680" y="2857680"/>
              <a:ext cx="5486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28600" y="6477120"/>
            <a:ext cx="8610480" cy="1522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6400800" cy="1666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6777000" y="17640"/>
            <a:ext cx="2367000" cy="89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welc.29,0kb"/>
          <p:cNvPicPr/>
          <p:nvPr/>
        </p:nvPicPr>
        <p:blipFill>
          <a:blip r:embed="rId1"/>
          <a:stretch/>
        </p:blipFill>
        <p:spPr>
          <a:xfrm>
            <a:off x="2209680" y="228600"/>
            <a:ext cx="4572000" cy="749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95480" y="11574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 LIECHT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Flagge Schweiz"/>
          <p:cNvPicPr/>
          <p:nvPr/>
        </p:nvPicPr>
        <p:blipFill>
          <a:blip r:embed="rId2"/>
          <a:stretch/>
        </p:blipFill>
        <p:spPr>
          <a:xfrm>
            <a:off x="685800" y="310680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Flagge Liechtenstein"/>
          <p:cNvPicPr/>
          <p:nvPr/>
        </p:nvPicPr>
        <p:blipFill>
          <a:blip r:embed="rId3"/>
          <a:stretch/>
        </p:blipFill>
        <p:spPr>
          <a:xfrm>
            <a:off x="7162920" y="3135240"/>
            <a:ext cx="167616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133720" y="2728800"/>
            <a:ext cx="50292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2 -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523880"/>
            <a:ext cx="84582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2: correlates the output voltage waveform into a simple structure – according to the two operational modes "normal mode " and "standby mod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cc3300"/>
                </a:solidFill>
                <a:latin typeface="Arial"/>
              </a:rPr>
              <a:t>Step 2: By generated Output wave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3333cc"/>
                </a:solidFill>
                <a:latin typeface="Arial"/>
              </a:rPr>
              <a:t>Code SS:</a:t>
            </a:r>
            <a:r>
              <a:rPr b="0" lang="de-CH" sz="2400" spc="-1" strike="noStrike">
                <a:solidFill>
                  <a:srgbClr val="cc3300"/>
                </a:solidFill>
                <a:latin typeface="Arial"/>
              </a:rPr>
              <a:t> sinusoidal: total harmonics factor D &lt; 0.08 (IEC 61000-2-2) under all linear and under reference non-linear load .....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3333cc"/>
                </a:solidFill>
                <a:latin typeface="Arial"/>
              </a:rPr>
              <a:t>Code XX:</a:t>
            </a:r>
            <a:r>
              <a:rPr b="0" lang="de-CH" sz="2400" spc="-1" strike="noStrike">
                <a:solidFill>
                  <a:srgbClr val="cc3300"/>
                </a:solidFill>
                <a:latin typeface="Arial"/>
              </a:rPr>
              <a:t> Non-sinusoidal: D &gt; 0.08 under reference non-linear load .....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3333cc"/>
                </a:solidFill>
                <a:latin typeface="Arial"/>
              </a:rPr>
              <a:t>Code YY:</a:t>
            </a:r>
            <a:r>
              <a:rPr b="0" lang="de-CH" sz="2400" spc="-1" strike="noStrike">
                <a:solidFill>
                  <a:srgbClr val="cc3300"/>
                </a:solidFill>
                <a:latin typeface="Arial"/>
              </a:rPr>
              <a:t> Non-sinusodial: exeed the limits of IEC 61000-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304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3 - Definition</a:t>
            </a:r>
            <a:r>
              <a:rPr b="0" i="1" lang="de-CH" sz="2400" spc="-1" strike="noStrike">
                <a:solidFill>
                  <a:srgbClr val="000000"/>
                </a:solidFill>
                <a:latin typeface="TimesNewRoman,Ital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990720"/>
            <a:ext cx="7848720" cy="70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Business critical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applications need a clean sine-wave voltage under all conditions. Step 3 defines the maximum allowable dynamic deviations (from a clean sine-wave). As such, it represents the real </a:t>
            </a: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"royal challenge"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to UPS classification – because this is where the “first class” UPS will be separated from the “rest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3: Three tolerance curves describe the output voltage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cc3300"/>
                </a:solidFill>
                <a:latin typeface="Arial"/>
              </a:rPr>
              <a:t>Code for Output Tolerance Cur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first character: change of operating mode performance e.g. normal mode–standby mode – bypass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second character: step linear load performance in normal / standby mode (worst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third character: step </a:t>
            </a: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non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-linear load performance in normal / standby mode (worst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35812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35812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35812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imesNewRoman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TimesNew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1" lang="fr-CH" sz="2800" spc="-1" strike="noStrike">
                <a:solidFill>
                  <a:srgbClr val="cc3300"/>
                </a:solidFill>
                <a:latin typeface="Arial"/>
              </a:rPr>
              <a:t>PS</a:t>
            </a:r>
            <a:r>
              <a:rPr b="1" lang="de-DE" sz="28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1" lang="en" sz="2800" spc="-1" strike="noStrike">
                <a:solidFill>
                  <a:srgbClr val="cc3300"/>
                </a:solidFill>
                <a:latin typeface="Arial"/>
                <a:ea typeface="Arial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4672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On-Line (Pro Sec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cc3300"/>
                </a:solidFill>
                <a:latin typeface="Arial"/>
                <a:ea typeface="Arial"/>
              </a:rPr>
              <a:t>perfect re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cc3300"/>
                </a:solidFill>
                <a:latin typeface="Arial"/>
                <a:ea typeface="Arial"/>
              </a:rPr>
              <a:t>excellent filter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Line-Interactive (Line Sec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"/>
              </a:rPr>
              <a:t>Line re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cc3300"/>
                </a:solidFill>
                <a:latin typeface="Arial"/>
                <a:ea typeface="Arial"/>
              </a:rPr>
              <a:t>good filter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Off-Line (Personal Sec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cc3300"/>
                </a:solidFill>
                <a:latin typeface="Arial"/>
                <a:ea typeface="Arial"/>
              </a:rPr>
              <a:t>works at power fail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cc3300"/>
                </a:solidFill>
                <a:latin typeface="Arial"/>
                <a:ea typeface="Arial"/>
              </a:rPr>
              <a:t>good filter ef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1295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1752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486400" y="1523880"/>
            <a:ext cx="838080" cy="533520"/>
            <a:chOff x="5486400" y="1523880"/>
            <a:chExt cx="838080" cy="533520"/>
          </a:xfrm>
        </p:grpSpPr>
        <p:sp>
          <p:nvSpPr>
            <p:cNvPr id="75" name=""/>
            <p:cNvSpPr/>
            <p:nvPr/>
          </p:nvSpPr>
          <p:spPr>
            <a:xfrm>
              <a:off x="5486400" y="1523880"/>
              <a:ext cx="838080" cy="533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36080" y="1535040"/>
              <a:ext cx="76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tif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553080" y="1523880"/>
            <a:ext cx="972720" cy="533520"/>
            <a:chOff x="6553080" y="1523880"/>
            <a:chExt cx="972720" cy="533520"/>
          </a:xfrm>
        </p:grpSpPr>
        <p:sp>
          <p:nvSpPr>
            <p:cNvPr id="78" name=""/>
            <p:cNvSpPr/>
            <p:nvPr/>
          </p:nvSpPr>
          <p:spPr>
            <a:xfrm>
              <a:off x="6553080" y="1523880"/>
              <a:ext cx="972720" cy="533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98520" y="153504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nver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96080" y="1523880"/>
            <a:ext cx="838080" cy="533520"/>
            <a:chOff x="7696080" y="1523880"/>
            <a:chExt cx="838080" cy="533520"/>
          </a:xfrm>
        </p:grpSpPr>
        <p:sp>
          <p:nvSpPr>
            <p:cNvPr id="81" name=""/>
            <p:cNvSpPr/>
            <p:nvPr/>
          </p:nvSpPr>
          <p:spPr>
            <a:xfrm>
              <a:off x="7696080" y="1523880"/>
              <a:ext cx="838080" cy="533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54040" y="15350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yp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8001000" y="1295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248520" y="1752480"/>
            <a:ext cx="304560" cy="609480"/>
            <a:chOff x="6248520" y="1752480"/>
            <a:chExt cx="304560" cy="609480"/>
          </a:xfrm>
        </p:grpSpPr>
        <p:sp>
          <p:nvSpPr>
            <p:cNvPr id="85" name=""/>
            <p:cNvSpPr/>
            <p:nvPr/>
          </p:nvSpPr>
          <p:spPr>
            <a:xfrm>
              <a:off x="6400440" y="1752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48520" y="2209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24480" y="22860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48520" y="2361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257800" y="2819520"/>
            <a:ext cx="3429000" cy="1447200"/>
            <a:chOff x="5257800" y="2819520"/>
            <a:chExt cx="3429000" cy="1447200"/>
          </a:xfrm>
        </p:grpSpPr>
        <p:sp>
          <p:nvSpPr>
            <p:cNvPr id="90" name=""/>
            <p:cNvSpPr/>
            <p:nvPr/>
          </p:nvSpPr>
          <p:spPr>
            <a:xfrm>
              <a:off x="5333760" y="36572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30477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5486400" y="2819520"/>
              <a:ext cx="838080" cy="533160"/>
              <a:chOff x="5486400" y="2819520"/>
              <a:chExt cx="838080" cy="533160"/>
            </a:xfrm>
          </p:grpSpPr>
          <p:sp>
            <p:nvSpPr>
              <p:cNvPr id="93" name=""/>
              <p:cNvSpPr/>
              <p:nvPr/>
            </p:nvSpPr>
            <p:spPr>
              <a:xfrm>
                <a:off x="5486400" y="2819520"/>
                <a:ext cx="838080" cy="5331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48760" y="28303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AV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553080" y="2819520"/>
              <a:ext cx="1019520" cy="533160"/>
              <a:chOff x="6553080" y="2819520"/>
              <a:chExt cx="1019520" cy="533160"/>
            </a:xfrm>
          </p:grpSpPr>
          <p:sp>
            <p:nvSpPr>
              <p:cNvPr id="96" name=""/>
              <p:cNvSpPr/>
              <p:nvPr/>
            </p:nvSpPr>
            <p:spPr>
              <a:xfrm>
                <a:off x="6553080" y="2819520"/>
                <a:ext cx="973080" cy="5331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08520" y="2830320"/>
                <a:ext cx="96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Line Fil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7696080" y="2819520"/>
              <a:ext cx="838080" cy="533160"/>
              <a:chOff x="7696080" y="2819520"/>
              <a:chExt cx="838080" cy="533160"/>
            </a:xfrm>
          </p:grpSpPr>
          <p:sp>
            <p:nvSpPr>
              <p:cNvPr id="99" name=""/>
              <p:cNvSpPr/>
              <p:nvPr/>
            </p:nvSpPr>
            <p:spPr>
              <a:xfrm>
                <a:off x="7696080" y="2819520"/>
                <a:ext cx="838080" cy="5331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58000" y="2830320"/>
                <a:ext cx="74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lay-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witc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8076960" y="3352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248160" y="3657240"/>
              <a:ext cx="304920" cy="609480"/>
              <a:chOff x="6248160" y="3657240"/>
              <a:chExt cx="304920" cy="609480"/>
            </a:xfrm>
          </p:grpSpPr>
          <p:sp>
            <p:nvSpPr>
              <p:cNvPr id="103" name=""/>
              <p:cNvSpPr/>
              <p:nvPr/>
            </p:nvSpPr>
            <p:spPr>
              <a:xfrm>
                <a:off x="6400440" y="36572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48160" y="4114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324480" y="4190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48160" y="42667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86400" y="3428640"/>
              <a:ext cx="852120" cy="533160"/>
              <a:chOff x="5486400" y="3428640"/>
              <a:chExt cx="852120" cy="533160"/>
            </a:xfrm>
          </p:grpSpPr>
          <p:sp>
            <p:nvSpPr>
              <p:cNvPr id="108" name=""/>
              <p:cNvSpPr/>
              <p:nvPr/>
            </p:nvSpPr>
            <p:spPr>
              <a:xfrm>
                <a:off x="5486400" y="3428640"/>
                <a:ext cx="838080" cy="5331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02240" y="3439440"/>
                <a:ext cx="83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ttery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harg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V="1">
              <a:off x="5333760" y="3047760"/>
              <a:ext cx="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6553080" y="3428640"/>
              <a:ext cx="972720" cy="533160"/>
              <a:chOff x="6553080" y="3428640"/>
              <a:chExt cx="972720" cy="533160"/>
            </a:xfrm>
          </p:grpSpPr>
          <p:sp>
            <p:nvSpPr>
              <p:cNvPr id="112" name=""/>
              <p:cNvSpPr/>
              <p:nvPr/>
            </p:nvSpPr>
            <p:spPr>
              <a:xfrm>
                <a:off x="6553080" y="3428640"/>
                <a:ext cx="972720" cy="5331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96360" y="343944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inver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5334120" y="4572000"/>
            <a:ext cx="3429000" cy="1447920"/>
            <a:chOff x="5334120" y="4572000"/>
            <a:chExt cx="3429000" cy="1447920"/>
          </a:xfrm>
        </p:grpSpPr>
        <p:sp>
          <p:nvSpPr>
            <p:cNvPr id="115" name=""/>
            <p:cNvSpPr/>
            <p:nvPr/>
          </p:nvSpPr>
          <p:spPr>
            <a:xfrm>
              <a:off x="5410080" y="54104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4120" y="48006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629400" y="4572000"/>
              <a:ext cx="1019520" cy="533520"/>
              <a:chOff x="6629400" y="4572000"/>
              <a:chExt cx="1019520" cy="533520"/>
            </a:xfrm>
          </p:grpSpPr>
          <p:sp>
            <p:nvSpPr>
              <p:cNvPr id="118" name=""/>
              <p:cNvSpPr/>
              <p:nvPr/>
            </p:nvSpPr>
            <p:spPr>
              <a:xfrm>
                <a:off x="6629400" y="4572000"/>
                <a:ext cx="973080" cy="533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84840" y="4583160"/>
                <a:ext cx="96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Line Fil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7772400" y="4572000"/>
              <a:ext cx="838080" cy="533520"/>
              <a:chOff x="7772400" y="4572000"/>
              <a:chExt cx="838080" cy="533520"/>
            </a:xfrm>
          </p:grpSpPr>
          <p:sp>
            <p:nvSpPr>
              <p:cNvPr id="121" name=""/>
              <p:cNvSpPr/>
              <p:nvPr/>
            </p:nvSpPr>
            <p:spPr>
              <a:xfrm>
                <a:off x="7772400" y="4572000"/>
                <a:ext cx="838080" cy="5335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834320" y="4583160"/>
                <a:ext cx="74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lay-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witc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8153280" y="5105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324480" y="5410440"/>
              <a:ext cx="304920" cy="609480"/>
              <a:chOff x="6324480" y="5410440"/>
              <a:chExt cx="304920" cy="60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6476760" y="54104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24480" y="5867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00800" y="5943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24480" y="60199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62720" y="5181840"/>
              <a:ext cx="852120" cy="533160"/>
              <a:chOff x="5562720" y="5181840"/>
              <a:chExt cx="852120" cy="533160"/>
            </a:xfrm>
          </p:grpSpPr>
          <p:sp>
            <p:nvSpPr>
              <p:cNvPr id="130" name=""/>
              <p:cNvSpPr/>
              <p:nvPr/>
            </p:nvSpPr>
            <p:spPr>
              <a:xfrm>
                <a:off x="5562720" y="5181840"/>
                <a:ext cx="838080" cy="5331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78560" y="5192640"/>
                <a:ext cx="83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ttery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harg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flipV="1">
              <a:off x="5410080" y="480060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629400" y="5181840"/>
              <a:ext cx="972720" cy="533160"/>
              <a:chOff x="6629400" y="5181840"/>
              <a:chExt cx="972720" cy="533160"/>
            </a:xfrm>
          </p:grpSpPr>
          <p:sp>
            <p:nvSpPr>
              <p:cNvPr id="134" name=""/>
              <p:cNvSpPr/>
              <p:nvPr/>
            </p:nvSpPr>
            <p:spPr>
              <a:xfrm>
                <a:off x="6629400" y="5181840"/>
                <a:ext cx="972720" cy="5331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72680" y="519264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inver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93640" y="-3492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286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175248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Classificat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PersonalSecure</a:t>
            </a:r>
            <a:r>
              <a:rPr b="0" lang="de-CH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- V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312408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Classifica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LineSecure</a:t>
            </a:r>
            <a:r>
              <a:rPr b="0" lang="de-CH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-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8006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Classifica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ProSecure</a:t>
            </a:r>
            <a:r>
              <a:rPr b="0" lang="de-CH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– VF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" dur="1" fill="hold"/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91440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228600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cc3300"/>
                </a:solidFill>
                <a:latin typeface="Arial"/>
              </a:rPr>
              <a:t>Roline UPS</a:t>
            </a:r>
            <a:r>
              <a:rPr b="0" lang="de-CH" sz="3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1" lang="de-CH" sz="3200" spc="-1" strike="noStrike">
                <a:solidFill>
                  <a:srgbClr val="cc3300"/>
                </a:solidFill>
                <a:latin typeface="Arial"/>
              </a:rPr>
              <a:t> offer the most reliable and cost-efficient system, to ensure continued protection of connected equipment and supply of electricity by strict quality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28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Our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1143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Why would I need a UP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76720" y="2057400"/>
            <a:ext cx="2049480" cy="3894120"/>
            <a:chOff x="3276720" y="2057400"/>
            <a:chExt cx="2049480" cy="3894120"/>
          </a:xfrm>
        </p:grpSpPr>
        <p:sp>
          <p:nvSpPr>
            <p:cNvPr id="146" name=""/>
            <p:cNvSpPr/>
            <p:nvPr/>
          </p:nvSpPr>
          <p:spPr>
            <a:xfrm>
              <a:off x="3276720" y="3251160"/>
              <a:ext cx="801720" cy="1324080"/>
            </a:xfrm>
            <a:custGeom>
              <a:avLst/>
              <a:gdLst/>
              <a:ahLst/>
              <a:rect l="l" t="t" r="r" b="b"/>
              <a:pathLst>
                <a:path w="505" h="834">
                  <a:moveTo>
                    <a:pt x="268" y="124"/>
                  </a:moveTo>
                  <a:lnTo>
                    <a:pt x="320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2" y="189"/>
                  </a:lnTo>
                  <a:lnTo>
                    <a:pt x="134" y="268"/>
                  </a:lnTo>
                  <a:lnTo>
                    <a:pt x="76" y="288"/>
                  </a:lnTo>
                  <a:lnTo>
                    <a:pt x="56" y="319"/>
                  </a:lnTo>
                  <a:lnTo>
                    <a:pt x="76" y="350"/>
                  </a:lnTo>
                  <a:lnTo>
                    <a:pt x="196" y="466"/>
                  </a:lnTo>
                  <a:lnTo>
                    <a:pt x="251" y="505"/>
                  </a:lnTo>
                  <a:lnTo>
                    <a:pt x="333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8" y="673"/>
                  </a:lnTo>
                  <a:lnTo>
                    <a:pt x="200" y="704"/>
                  </a:lnTo>
                  <a:lnTo>
                    <a:pt x="179" y="783"/>
                  </a:lnTo>
                  <a:lnTo>
                    <a:pt x="179" y="824"/>
                  </a:lnTo>
                  <a:lnTo>
                    <a:pt x="155" y="834"/>
                  </a:lnTo>
                  <a:lnTo>
                    <a:pt x="117" y="797"/>
                  </a:lnTo>
                  <a:lnTo>
                    <a:pt x="124" y="731"/>
                  </a:lnTo>
                  <a:lnTo>
                    <a:pt x="158" y="683"/>
                  </a:lnTo>
                  <a:lnTo>
                    <a:pt x="227" y="642"/>
                  </a:lnTo>
                  <a:lnTo>
                    <a:pt x="302" y="622"/>
                  </a:lnTo>
                  <a:lnTo>
                    <a:pt x="309" y="601"/>
                  </a:lnTo>
                  <a:lnTo>
                    <a:pt x="272" y="560"/>
                  </a:lnTo>
                  <a:lnTo>
                    <a:pt x="114" y="456"/>
                  </a:lnTo>
                  <a:lnTo>
                    <a:pt x="66" y="415"/>
                  </a:lnTo>
                  <a:lnTo>
                    <a:pt x="20" y="360"/>
                  </a:lnTo>
                  <a:lnTo>
                    <a:pt x="0" y="298"/>
                  </a:lnTo>
                  <a:lnTo>
                    <a:pt x="13" y="261"/>
                  </a:lnTo>
                  <a:lnTo>
                    <a:pt x="93" y="237"/>
                  </a:lnTo>
                  <a:lnTo>
                    <a:pt x="189" y="196"/>
                  </a:lnTo>
                  <a:lnTo>
                    <a:pt x="251" y="154"/>
                  </a:lnTo>
                  <a:lnTo>
                    <a:pt x="268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90960" y="3191040"/>
              <a:ext cx="559080" cy="1269720"/>
            </a:xfrm>
            <a:custGeom>
              <a:avLst/>
              <a:gdLst/>
              <a:ahLst/>
              <a:rect l="l" t="t" r="r" b="b"/>
              <a:pathLst>
                <a:path w="352" h="800">
                  <a:moveTo>
                    <a:pt x="75" y="62"/>
                  </a:moveTo>
                  <a:lnTo>
                    <a:pt x="107" y="10"/>
                  </a:lnTo>
                  <a:lnTo>
                    <a:pt x="145" y="0"/>
                  </a:lnTo>
                  <a:lnTo>
                    <a:pt x="197" y="0"/>
                  </a:lnTo>
                  <a:lnTo>
                    <a:pt x="262" y="38"/>
                  </a:lnTo>
                  <a:lnTo>
                    <a:pt x="303" y="121"/>
                  </a:lnTo>
                  <a:lnTo>
                    <a:pt x="334" y="227"/>
                  </a:lnTo>
                  <a:lnTo>
                    <a:pt x="352" y="336"/>
                  </a:lnTo>
                  <a:lnTo>
                    <a:pt x="352" y="484"/>
                  </a:lnTo>
                  <a:lnTo>
                    <a:pt x="314" y="646"/>
                  </a:lnTo>
                  <a:lnTo>
                    <a:pt x="259" y="741"/>
                  </a:lnTo>
                  <a:lnTo>
                    <a:pt x="186" y="789"/>
                  </a:lnTo>
                  <a:lnTo>
                    <a:pt x="118" y="800"/>
                  </a:lnTo>
                  <a:lnTo>
                    <a:pt x="65" y="769"/>
                  </a:lnTo>
                  <a:lnTo>
                    <a:pt x="24" y="731"/>
                  </a:lnTo>
                  <a:lnTo>
                    <a:pt x="13" y="670"/>
                  </a:lnTo>
                  <a:lnTo>
                    <a:pt x="0" y="553"/>
                  </a:lnTo>
                  <a:lnTo>
                    <a:pt x="10" y="408"/>
                  </a:lnTo>
                  <a:lnTo>
                    <a:pt x="41" y="258"/>
                  </a:lnTo>
                  <a:lnTo>
                    <a:pt x="61" y="151"/>
                  </a:lnTo>
                  <a:lnTo>
                    <a:pt x="7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46840" y="4295880"/>
              <a:ext cx="325440" cy="1655640"/>
            </a:xfrm>
            <a:custGeom>
              <a:avLst/>
              <a:gdLst/>
              <a:ahLst/>
              <a:rect l="l" t="t" r="r" b="b"/>
              <a:pathLst>
                <a:path w="205" h="1043">
                  <a:moveTo>
                    <a:pt x="99" y="184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5"/>
                  </a:lnTo>
                  <a:lnTo>
                    <a:pt x="205" y="370"/>
                  </a:lnTo>
                  <a:lnTo>
                    <a:pt x="194" y="504"/>
                  </a:lnTo>
                  <a:lnTo>
                    <a:pt x="174" y="648"/>
                  </a:lnTo>
                  <a:lnTo>
                    <a:pt x="174" y="822"/>
                  </a:lnTo>
                  <a:lnTo>
                    <a:pt x="201" y="895"/>
                  </a:lnTo>
                  <a:lnTo>
                    <a:pt x="191" y="929"/>
                  </a:lnTo>
                  <a:lnTo>
                    <a:pt x="143" y="940"/>
                  </a:lnTo>
                  <a:lnTo>
                    <a:pt x="92" y="988"/>
                  </a:lnTo>
                  <a:lnTo>
                    <a:pt x="68" y="1029"/>
                  </a:lnTo>
                  <a:lnTo>
                    <a:pt x="10" y="1043"/>
                  </a:lnTo>
                  <a:lnTo>
                    <a:pt x="0" y="998"/>
                  </a:lnTo>
                  <a:lnTo>
                    <a:pt x="20" y="960"/>
                  </a:lnTo>
                  <a:lnTo>
                    <a:pt x="92" y="929"/>
                  </a:lnTo>
                  <a:lnTo>
                    <a:pt x="143" y="906"/>
                  </a:lnTo>
                  <a:lnTo>
                    <a:pt x="160" y="885"/>
                  </a:lnTo>
                  <a:lnTo>
                    <a:pt x="140" y="827"/>
                  </a:lnTo>
                  <a:lnTo>
                    <a:pt x="123" y="709"/>
                  </a:lnTo>
                  <a:lnTo>
                    <a:pt x="119" y="569"/>
                  </a:lnTo>
                  <a:lnTo>
                    <a:pt x="123" y="476"/>
                  </a:lnTo>
                  <a:lnTo>
                    <a:pt x="129" y="350"/>
                  </a:lnTo>
                  <a:lnTo>
                    <a:pt x="119" y="236"/>
                  </a:lnTo>
                  <a:lnTo>
                    <a:pt x="99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9640" y="4299120"/>
              <a:ext cx="507960" cy="1650960"/>
            </a:xfrm>
            <a:custGeom>
              <a:avLst/>
              <a:gdLst/>
              <a:ahLst/>
              <a:rect l="l" t="t" r="r" b="b"/>
              <a:pathLst>
                <a:path w="320" h="1040">
                  <a:moveTo>
                    <a:pt x="196" y="96"/>
                  </a:moveTo>
                  <a:lnTo>
                    <a:pt x="230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0" y="236"/>
                  </a:lnTo>
                  <a:lnTo>
                    <a:pt x="179" y="343"/>
                  </a:lnTo>
                  <a:lnTo>
                    <a:pt x="155" y="456"/>
                  </a:lnTo>
                  <a:lnTo>
                    <a:pt x="158" y="566"/>
                  </a:lnTo>
                  <a:lnTo>
                    <a:pt x="196" y="713"/>
                  </a:lnTo>
                  <a:lnTo>
                    <a:pt x="227" y="855"/>
                  </a:lnTo>
                  <a:lnTo>
                    <a:pt x="272" y="916"/>
                  </a:lnTo>
                  <a:lnTo>
                    <a:pt x="268" y="951"/>
                  </a:lnTo>
                  <a:lnTo>
                    <a:pt x="230" y="968"/>
                  </a:lnTo>
                  <a:lnTo>
                    <a:pt x="144" y="981"/>
                  </a:lnTo>
                  <a:lnTo>
                    <a:pt x="83" y="1019"/>
                  </a:lnTo>
                  <a:lnTo>
                    <a:pt x="52" y="1040"/>
                  </a:lnTo>
                  <a:lnTo>
                    <a:pt x="0" y="992"/>
                  </a:lnTo>
                  <a:lnTo>
                    <a:pt x="11" y="961"/>
                  </a:lnTo>
                  <a:lnTo>
                    <a:pt x="62" y="940"/>
                  </a:lnTo>
                  <a:lnTo>
                    <a:pt x="127" y="930"/>
                  </a:lnTo>
                  <a:lnTo>
                    <a:pt x="189" y="930"/>
                  </a:lnTo>
                  <a:lnTo>
                    <a:pt x="199" y="910"/>
                  </a:lnTo>
                  <a:lnTo>
                    <a:pt x="189" y="875"/>
                  </a:lnTo>
                  <a:lnTo>
                    <a:pt x="137" y="741"/>
                  </a:lnTo>
                  <a:lnTo>
                    <a:pt x="103" y="610"/>
                  </a:lnTo>
                  <a:lnTo>
                    <a:pt x="86" y="515"/>
                  </a:lnTo>
                  <a:lnTo>
                    <a:pt x="83" y="426"/>
                  </a:lnTo>
                  <a:lnTo>
                    <a:pt x="96" y="340"/>
                  </a:lnTo>
                  <a:lnTo>
                    <a:pt x="127" y="250"/>
                  </a:lnTo>
                  <a:lnTo>
                    <a:pt x="175" y="133"/>
                  </a:lnTo>
                  <a:lnTo>
                    <a:pt x="19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86480" y="2239920"/>
              <a:ext cx="653760" cy="862200"/>
            </a:xfrm>
            <a:custGeom>
              <a:avLst/>
              <a:gdLst/>
              <a:ahLst/>
              <a:rect l="l" t="t" r="r" b="b"/>
              <a:pathLst>
                <a:path w="412" h="543">
                  <a:moveTo>
                    <a:pt x="150" y="454"/>
                  </a:moveTo>
                  <a:lnTo>
                    <a:pt x="181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6"/>
                  </a:lnTo>
                  <a:lnTo>
                    <a:pt x="398" y="203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0" y="7"/>
                  </a:lnTo>
                  <a:lnTo>
                    <a:pt x="102" y="69"/>
                  </a:lnTo>
                  <a:lnTo>
                    <a:pt x="82" y="135"/>
                  </a:lnTo>
                  <a:lnTo>
                    <a:pt x="82" y="238"/>
                  </a:lnTo>
                  <a:lnTo>
                    <a:pt x="99" y="337"/>
                  </a:lnTo>
                  <a:lnTo>
                    <a:pt x="119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0" y="430"/>
                  </a:lnTo>
                  <a:lnTo>
                    <a:pt x="150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24440" y="2057400"/>
              <a:ext cx="1301760" cy="1443240"/>
            </a:xfrm>
            <a:custGeom>
              <a:avLst/>
              <a:gdLst/>
              <a:ahLst/>
              <a:rect l="l" t="t" r="r" b="b"/>
              <a:pathLst>
                <a:path w="820" h="909">
                  <a:moveTo>
                    <a:pt x="545" y="628"/>
                  </a:moveTo>
                  <a:lnTo>
                    <a:pt x="504" y="669"/>
                  </a:lnTo>
                  <a:lnTo>
                    <a:pt x="418" y="720"/>
                  </a:lnTo>
                  <a:lnTo>
                    <a:pt x="340" y="752"/>
                  </a:lnTo>
                  <a:lnTo>
                    <a:pt x="285" y="783"/>
                  </a:lnTo>
                  <a:lnTo>
                    <a:pt x="233" y="824"/>
                  </a:lnTo>
                  <a:lnTo>
                    <a:pt x="227" y="896"/>
                  </a:lnTo>
                  <a:lnTo>
                    <a:pt x="278" y="909"/>
                  </a:lnTo>
                  <a:lnTo>
                    <a:pt x="408" y="834"/>
                  </a:lnTo>
                  <a:lnTo>
                    <a:pt x="504" y="744"/>
                  </a:lnTo>
                  <a:lnTo>
                    <a:pt x="618" y="631"/>
                  </a:lnTo>
                  <a:lnTo>
                    <a:pt x="710" y="559"/>
                  </a:lnTo>
                  <a:lnTo>
                    <a:pt x="789" y="504"/>
                  </a:lnTo>
                  <a:lnTo>
                    <a:pt x="820" y="477"/>
                  </a:lnTo>
                  <a:lnTo>
                    <a:pt x="809" y="443"/>
                  </a:lnTo>
                  <a:lnTo>
                    <a:pt x="772" y="395"/>
                  </a:lnTo>
                  <a:lnTo>
                    <a:pt x="635" y="320"/>
                  </a:lnTo>
                  <a:lnTo>
                    <a:pt x="504" y="251"/>
                  </a:lnTo>
                  <a:lnTo>
                    <a:pt x="346" y="178"/>
                  </a:lnTo>
                  <a:lnTo>
                    <a:pt x="288" y="137"/>
                  </a:lnTo>
                  <a:lnTo>
                    <a:pt x="227" y="82"/>
                  </a:lnTo>
                  <a:lnTo>
                    <a:pt x="165" y="21"/>
                  </a:lnTo>
                  <a:lnTo>
                    <a:pt x="110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3" y="164"/>
                  </a:lnTo>
                  <a:lnTo>
                    <a:pt x="73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3" y="45"/>
                  </a:lnTo>
                  <a:lnTo>
                    <a:pt x="155" y="86"/>
                  </a:lnTo>
                  <a:lnTo>
                    <a:pt x="155" y="123"/>
                  </a:lnTo>
                  <a:lnTo>
                    <a:pt x="134" y="168"/>
                  </a:lnTo>
                  <a:lnTo>
                    <a:pt x="151" y="199"/>
                  </a:lnTo>
                  <a:lnTo>
                    <a:pt x="254" y="226"/>
                  </a:lnTo>
                  <a:lnTo>
                    <a:pt x="295" y="188"/>
                  </a:lnTo>
                  <a:lnTo>
                    <a:pt x="432" y="272"/>
                  </a:lnTo>
                  <a:lnTo>
                    <a:pt x="545" y="323"/>
                  </a:lnTo>
                  <a:lnTo>
                    <a:pt x="608" y="354"/>
                  </a:lnTo>
                  <a:lnTo>
                    <a:pt x="669" y="385"/>
                  </a:lnTo>
                  <a:lnTo>
                    <a:pt x="717" y="426"/>
                  </a:lnTo>
                  <a:lnTo>
                    <a:pt x="748" y="467"/>
                  </a:lnTo>
                  <a:lnTo>
                    <a:pt x="720" y="497"/>
                  </a:lnTo>
                  <a:lnTo>
                    <a:pt x="655" y="539"/>
                  </a:lnTo>
                  <a:lnTo>
                    <a:pt x="587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9000" y="152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38080" y="1219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Why ROLI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4960" y="152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658800" cy="2000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0880" y="2514600"/>
            <a:ext cx="83822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-2-3 concept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asy way for consumers to understand and choose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heir power protection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</a:rPr>
              <a:t>Product portfolio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Offers a fully reliable product portfolio for all technical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cc"/>
                </a:solidFill>
                <a:uFillTx/>
                <a:latin typeface="Arial"/>
              </a:rPr>
              <a:t>Software Suite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Power Management software with all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</a:rPr>
              <a:t>Connec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</a:rPr>
              <a:t>ti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o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Connectivity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571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cc"/>
                </a:solidFill>
                <a:uFillTx/>
                <a:latin typeface="Arial"/>
              </a:rPr>
              <a:t>Solutions not o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bstacles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Not only UPS &amp; Software, but also professional Roline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staff and Roline 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96440" cy="509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88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Grid disturbances and UP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ff"/>
                </a:solidFill>
                <a:latin typeface="TimesNewRoman"/>
              </a:rPr>
              <a:t>publicated by ZVEI: UPS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715000" y="1523880"/>
            <a:ext cx="2970360" cy="43434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44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066680"/>
            <a:ext cx="4724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3300"/>
                </a:solidFill>
                <a:latin typeface="Arial"/>
              </a:rPr>
              <a:t>Product portfoli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1752480"/>
            <a:ext cx="1733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ritical, On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362320"/>
            <a:ext cx="2211480" cy="3504960"/>
          </a:xfrm>
          <a:prstGeom prst="rect">
            <a:avLst/>
          </a:prstGeom>
          <a:solidFill>
            <a:srgbClr val="85b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2666880"/>
            <a:ext cx="20304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e-inter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4343400"/>
            <a:ext cx="1440" cy="6332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5160" y="4114800"/>
            <a:ext cx="64692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00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0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3733920"/>
            <a:ext cx="1524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e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4191120"/>
            <a:ext cx="152640" cy="141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4419720"/>
            <a:ext cx="152640" cy="141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648320"/>
            <a:ext cx="152640" cy="141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4876920"/>
            <a:ext cx="152640" cy="141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9625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Personal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3657600"/>
            <a:ext cx="152280" cy="141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352680"/>
            <a:ext cx="152280" cy="1414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3962520"/>
            <a:ext cx="152280" cy="141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267080"/>
            <a:ext cx="152280" cy="1414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4572000"/>
            <a:ext cx="152280" cy="141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3429000"/>
            <a:ext cx="0" cy="121932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3276720"/>
            <a:ext cx="9907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3000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2000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1000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8195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Pro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352680"/>
            <a:ext cx="175284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sonal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3733920"/>
            <a:ext cx="990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rial"/>
              </a:rPr>
              <a:t>SOHO stand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4952880"/>
            <a:ext cx="0" cy="45720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952880"/>
            <a:ext cx="152280" cy="1414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257800"/>
            <a:ext cx="152280" cy="141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48769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800 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2680" y="152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5943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Class VFD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Class VI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Class V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3760" y="1522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295280" y="2362320"/>
            <a:ext cx="10439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500"/>
              </a:spcBef>
              <a:buClr>
                <a:srgbClr val="cc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cc3300"/>
                </a:solidFill>
                <a:latin typeface="Arial"/>
              </a:rPr>
              <a:t>UPS </a:t>
            </a:r>
            <a:r>
              <a:rPr b="1" lang="en-GB" sz="4000" spc="-1" strike="noStrike">
                <a:solidFill>
                  <a:srgbClr val="cc3300"/>
                </a:solidFill>
                <a:latin typeface="Arial"/>
              </a:rPr>
              <a:t>Classification</a:t>
            </a:r>
            <a:r>
              <a:rPr b="1" lang="de-CH" sz="4000" spc="-1" strike="noStrike">
                <a:solidFill>
                  <a:srgbClr val="cc3300"/>
                </a:solidFill>
                <a:latin typeface="Arial"/>
              </a:rPr>
              <a:t> –  </a:t>
            </a:r>
            <a:r>
              <a:rPr b="1" lang="de-CH" sz="4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de-CH" sz="4000" spc="-1" strike="noStrike">
                <a:solidFill>
                  <a:srgbClr val="cc3300"/>
                </a:solidFill>
                <a:latin typeface="Arial"/>
              </a:rPr>
              <a:t>IEC62040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500"/>
              </a:spcBef>
              <a:buClr>
                <a:srgbClr val="cc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cc3300"/>
                </a:solidFill>
                <a:latin typeface="Arial"/>
              </a:rPr>
              <a:t>Power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2500"/>
              </a:spcBef>
              <a:buClr>
                <a:srgbClr val="cc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cc3300"/>
                </a:solidFill>
                <a:latin typeface="Arial"/>
              </a:rPr>
              <a:t>Roline UPS Products &amp; Sol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1295280"/>
            <a:ext cx="81532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oftware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nd Connectivity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o make available a guide for customers with regards to software and connectivity solu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oftware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ersonalSecure Includes UPS MON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PC shutdown softw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LineSecure Includes UPS LAN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Network shutdown software)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Secur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cludes UPS LAN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Network shutdown software)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UPS LAN License for Multi Server Shut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oftware information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(UPS LAN C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cumentation (guides, manual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ata sheet PDFs (UPS, connectivity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pported operating ch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000" y="152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648320"/>
            <a:ext cx="9144000" cy="1600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nvensys Andale"/>
              </a:rPr>
              <a:t>Roline PersonalSecure entry level produc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nvensys Andale"/>
              </a:rPr>
              <a:t>single PC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990720"/>
            <a:ext cx="4648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roduct Snapsh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ating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500 VA &amp; 800 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Voltage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230 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50 and 60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figuration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pplication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Single PC, 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9000" y="152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097360" cy="3657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38280" y="3581280"/>
            <a:ext cx="66294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cc3300"/>
                </a:solidFill>
                <a:latin typeface="Arial Unicode MS"/>
              </a:rPr>
              <a:t>19.40.3505-S PersonalSecure 500VA, 5min,     </a:t>
            </a:r>
            <a:r>
              <a:rPr b="1" lang="fr-CH" sz="2000" spc="-1" strike="noStrike">
                <a:solidFill>
                  <a:srgbClr val="cc3300"/>
                </a:solidFill>
                <a:latin typeface="Arial Unicode MS"/>
              </a:rPr>
              <a:t>$62,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cc3300"/>
                </a:solidFill>
                <a:latin typeface="Arial Unicode MS"/>
              </a:rPr>
              <a:t>19.40.3508-S PersonalSecure 800VA, 3min,      </a:t>
            </a:r>
            <a:r>
              <a:rPr b="1" lang="fr-CH" sz="2000" spc="-1" strike="noStrike">
                <a:solidFill>
                  <a:srgbClr val="cc3300"/>
                </a:solidFill>
                <a:latin typeface="Arial Unicode MS"/>
              </a:rPr>
              <a:t>$80,81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19320" y="1143000"/>
            <a:ext cx="739116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pplications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Single PC protection, some special applications where physical size/price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mpetitor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PC ES and CS; Powerware 3110; MGE Pulsar Ellipse, a lot of cheap far-eas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ersonalSecure 500VA, PersonalSecure 800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ass VFD, offline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ersonalSecure 500 &amp; 800VA bundled with software + signal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pprox. 6 min backup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ey message:  *Basic power protection for PC includes shutdown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*Ready to 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2680" y="152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2680" y="152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267080"/>
            <a:ext cx="9144000" cy="20574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449568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nvensys Andale"/>
              </a:rPr>
              <a:t>Class VI Line Secure with true Sine-Wave output, Advanced Battery Management and reliable shutdown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1066680"/>
            <a:ext cx="45720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oduct Snap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ating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600 VA - 1500 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Voltage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220-240 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50 and 60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figuration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Tower &amp; 19” 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pplication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Windows NT/2000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28828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9000" y="152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305560" cy="53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pplications: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ffice servers, bigger PCs, ATM,s Cold gasoline stations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mpetitors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PC BackUPS Pro, SmartUPS, Powerware 5115; Pulsar Ellipse Pro, Pulsar Evolution &amp; cheap Far East direct imports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ineSecure 600 VA, 800 VA, 1000 VA* &amp; 1500 VA*                               * 19” &amp; Standalo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ass VI - line-interactive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ine wave output on batt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BM, Hot swappable batteries, 5 min backup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xternal SNMP adapter as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ey message:  *Power protection for office servers that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includes reliable shutdown software.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*Read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8280" y="152280"/>
            <a:ext cx="59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Personal Secure vs. Line Sec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3124080"/>
            <a:ext cx="8229600" cy="29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n a customer wants to protect a PC, when there is only a need for a reliable Shutdown solution (not necessarily a need for remote monitoring or a multi Server Shutdown), we can offer 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ersonal Secu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d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n a customer wants something more and is not willing to pay for a VFI-series (On Line double conversion) our solution is to offer our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ine Secu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35040" y="1441440"/>
          <a:ext cx="7986600" cy="122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41440"/>
                    <a:ext cx="79866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4419720"/>
            <a:ext cx="9144000" cy="1676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nvensys Andale"/>
              </a:rPr>
              <a:t>True double-conversion o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nvensys Anda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nvensys Andale"/>
              </a:rPr>
              <a:t>protection for any tower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1143000"/>
            <a:ext cx="45720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oduct Snap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ating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700 VA - 3000 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Voltage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208-240 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50 and 60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figuration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Tower &amp; 19” 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pplication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Critical IT application, all industrial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4960" y="152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28828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38080" y="1380960"/>
            <a:ext cx="8001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rue double conversion onlin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eets IEC standard 62040-3 regulations for Class 1 double conversion online 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otal independence and complete isolation between input and output for voltage and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343400"/>
            <a:ext cx="8172360" cy="1219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"/>
              </a:rPr>
              <a:t>Double conversion online is univers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rebuchet"/>
              </a:rPr>
              <a:t>recognized as the most reliable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000" y="152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1143000"/>
            <a:ext cx="876312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Secure is a VFI-series UPS, LineSecure is a VI-series 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re are more options on ProSecure, ready-made customization is much easier on Pro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Secure is built to meet industrial applications as well as IT applicatio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EREFO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n a customer wants to protect anything they consider to be critical, they need to use our product,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oline Pro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n the application is Industrial, we can offer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oline Pro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nly for bigger projects (when price is an issue), you should offer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oline Line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9000" y="1522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olin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514600"/>
            <a:ext cx="4953240" cy="26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RS232 serial communication port</a:t>
            </a:r>
            <a:br>
              <a:rPr sz="1900"/>
            </a:b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Slot for Connectivity options (work in parallel with either RS232 por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88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SNMP/WEB card for option sl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88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Relay card for option sl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88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EPO (Emergency Power Off)  port (shuts off the output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125880" cy="3124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1447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ProSecur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1522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IEC 62040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530360"/>
            <a:ext cx="84582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A new International UPS Classification by IEC 62040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Abstr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There are three typical UPS circuit arrangements in use, known by their good old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- On-line UPS or Double Conversion 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- Line Interactive 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- Off-line UPS or Passive stand-by 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but they are not clearly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4480" y="1522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VALUE UP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2828880" cy="3200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971800" y="1066680"/>
            <a:ext cx="4572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roduct Snapsh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ating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500 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Voltage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230 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50 and 60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figuration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pplication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Single PC, 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648320"/>
            <a:ext cx="9144000" cy="1600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nvensys Andale"/>
              </a:rPr>
              <a:t>VALUE UPS -  entry level produc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nvensys Andale"/>
              </a:rPr>
              <a:t>single PC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990720"/>
            <a:ext cx="3276720" cy="1981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5000" y="16444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cc3300"/>
                </a:solidFill>
                <a:latin typeface="Arial"/>
              </a:rPr>
              <a:t>Crash Price   $39,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38862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cc3300"/>
                </a:solidFill>
                <a:latin typeface="Arial"/>
              </a:rPr>
              <a:t>min. Order quantity: 10 pcs. /per Order </a:t>
            </a:r>
            <a:r>
              <a:rPr b="0" lang="de-CH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1800" spc="-1" strike="noStrike">
                <a:solidFill>
                  <a:srgbClr val="cc3300"/>
                </a:solidFill>
                <a:latin typeface="Arial"/>
              </a:rPr>
              <a:t>Available in January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VALUE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1128600"/>
            <a:ext cx="792468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pplications: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Single PC protection, some special applications where physical size/price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mpetitors: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oline LineSecure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PC BackUPS Pro, SmartUPS, Powerware 5115; Pulsar Ellipse Pro, Pulsar Evolution &amp; chea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Far-east direct im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Value UPS 500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ass VI, line-interactive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alue UPS 500 bundled with software + signal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pprox. 6 min backup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ey message:  *Basic power protection for PC which includes shutdown software. Is also ready to 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76320" y="1371600"/>
          <a:ext cx="8991360" cy="45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71600"/>
                    <a:ext cx="899136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20600" y="1432080"/>
            <a:ext cx="18576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Basically, competition is alright  – but in case of 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designations some competitors are extremely creat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Terms like “quasi online UPS”, “semi online UPS”,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online UPS, “online-sharing technology” ...have be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common. The motivation of these UPS providers i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confuse the user and to make them believe that their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are true double conversions at a much more affordable pr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In reality, these products are not double conversion, do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provide the reliability that the user´s expect from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conver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52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cc3300"/>
                </a:solidFill>
                <a:latin typeface="Arial"/>
                <a:ea typeface="Arial"/>
              </a:rPr>
              <a:t>Why a new stand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The Problem - Power Line Disturb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1143000"/>
            <a:ext cx="7467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Power Line Disturbance </a:t>
            </a: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cc3300"/>
                </a:solidFill>
                <a:latin typeface="Arial"/>
              </a:rPr>
              <a:t>Time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1. power output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&gt; 10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2. voltage fluctuations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&lt; 16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3. voltage transients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4 ... 16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4. under-voltage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5. over-voltage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6. Sporadic lightning effects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&lt; 1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7. voltage surges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&lt; 4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8. frequency fluctuations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spora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9. voltage bursts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perio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10. voltage harmonics 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cc33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52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UPS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424160"/>
            <a:ext cx="8001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UPS output is dependent on the input power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the voltage waveform of the UPS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the dynamic tolerance curves of the UPS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52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1 -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211400"/>
            <a:ext cx="80773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1: Output Dependency  depends on Input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Code V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Where the UPS ouput is Independent of </a:t>
            </a: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nput supply </a:t>
            </a: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oltage and </a:t>
            </a: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equency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cc3300"/>
                </a:solidFill>
                <a:latin typeface="Arial"/>
              </a:rPr>
              <a:t>VFI Summary - Output voltage is independent of all power line voltage and frequency fluctuations, however remains regulated within the tolerances set forth by IEC 61000-2-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400" spc="-1" strike="noStrike">
                <a:solidFill>
                  <a:srgbClr val="cc3300"/>
                </a:solidFill>
                <a:latin typeface="Arial"/>
                <a:ea typeface="Arial"/>
              </a:rPr>
              <a:t>This definition is valid for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1 –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143000"/>
            <a:ext cx="746748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1: Output Dependency from Input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Co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Where the UPS output is Dependent on </a:t>
            </a: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nput Supply Frequency </a:t>
            </a: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ariations, but supply Voltage variations are conditioned (Independent) ... 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cc3300"/>
                </a:solidFill>
                <a:latin typeface="Arial"/>
                <a:ea typeface="Arial"/>
              </a:rPr>
              <a:t>VI Summary - </a:t>
            </a:r>
            <a:r>
              <a:rPr b="1" i="1" lang="de-CH" sz="2400" spc="-1" strike="noStrike">
                <a:solidFill>
                  <a:srgbClr val="cc3300"/>
                </a:solidFill>
                <a:latin typeface="Arial"/>
              </a:rPr>
              <a:t>Output voltage is dependent on power line frequency but remains within prescribed limits through active or passive regulating mech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400" spc="-1" strike="noStrike">
                <a:solidFill>
                  <a:srgbClr val="cc3300"/>
                </a:solidFill>
                <a:latin typeface="Arial"/>
                <a:ea typeface="Arial"/>
              </a:rPr>
              <a:t>This definition is valid for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1447920"/>
            <a:ext cx="784836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1: by Output Dependency from Input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Code </a:t>
            </a: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V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Where the UPS output is </a:t>
            </a: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ependent on Input supply </a:t>
            </a: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oltage and </a:t>
            </a: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requency variation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cc3300"/>
                </a:solidFill>
                <a:latin typeface="Arial"/>
                <a:ea typeface="Arial"/>
              </a:rPr>
              <a:t>VFD Summary - </a:t>
            </a:r>
            <a:r>
              <a:rPr b="1" i="1" lang="de-CH" sz="2400" spc="-1" strike="noStrike">
                <a:solidFill>
                  <a:srgbClr val="cc3300"/>
                </a:solidFill>
                <a:latin typeface="Arial"/>
              </a:rPr>
              <a:t>The UPS output is dependent on changes in power line voltage and frequency when it has no corrective means, such as tapped transformers, EMC filters or var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400" spc="-1" strike="noStrike">
                <a:solidFill>
                  <a:srgbClr val="cc3300"/>
                </a:solidFill>
                <a:latin typeface="Arial"/>
                <a:ea typeface="Arial"/>
              </a:rPr>
              <a:t>This definition is valid for……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28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3300"/>
                </a:solidFill>
                <a:latin typeface="Arial"/>
              </a:rPr>
              <a:t>STEP 1 –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13:50:04Z</dcterms:created>
  <dc:creator>Stuerzinger</dc:creator>
  <dc:description/>
  <dc:language>en-US</dc:language>
  <cp:lastModifiedBy>Ventsyslav Vassilev</cp:lastModifiedBy>
  <dcterms:modified xsi:type="dcterms:W3CDTF">2004-05-13T13:44:11Z</dcterms:modified>
  <cp:revision>72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38806194</vt:r8>
  </property>
  <property fmtid="{D5CDD505-2E9C-101B-9397-08002B2CF9AE}" pid="3" name="_AuthorEmail">
    <vt:lpwstr>d_marinska@comelsoft.com</vt:lpwstr>
  </property>
  <property fmtid="{D5CDD505-2E9C-101B-9397-08002B2CF9AE}" pid="4" name="_AuthorEmailDisplayName">
    <vt:lpwstr>Detelina Marinska</vt:lpwstr>
  </property>
  <property fmtid="{D5CDD505-2E9C-101B-9397-08002B2CF9AE}" pid="5" name="_EmailSubject">
    <vt:lpwstr>Roline UPS Malbun.ppt</vt:lpwstr>
  </property>
  <property fmtid="{D5CDD505-2E9C-101B-9397-08002B2CF9AE}" pid="6" name="_ReviewingToolsShownOnce">
    <vt:lpwstr/>
  </property>
</Properties>
</file>